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71A-146A-40C3-8DBB-645C565B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B22-8B4C-42F3-8C1B-0CAA5052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1A1-2C86-476A-A73D-30454360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CB6-9AE9-4C86-A3BD-F1608898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9F7-4C7C-447A-A001-A25EEEA3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E75-60ED-4D24-9E0F-154112DB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289-4B04-4DAF-A01B-B353C2AD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F0F-C7AC-4E2E-8E2C-62F72F5B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515-4F41-4284-B7B2-B882D283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D93-3411-449A-B71A-386E2E9D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4D71-8E7F-4219-A9A2-92E7439B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735-6388-431B-BAE6-50015DD0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52F1-FDF1-43D4-839F-A8E93C1BC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how things are alike and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cks and Ri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2400480" y="1036800"/>
            <a:ext cx="914400" cy="66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943600" y="1036800"/>
            <a:ext cx="901800" cy="749160"/>
          </a:xfrm>
          <a:prstGeom prst="rect">
            <a:avLst/>
          </a:prstGeom>
          <a:ln w="0">
            <a:noFill/>
          </a:ln>
        </p:spPr>
      </p:pic>
      <p:sp>
        <p:nvSpPr>
          <p:cNvPr id="46" name="Oval 7"/>
          <p:cNvSpPr/>
          <p:nvPr/>
        </p:nvSpPr>
        <p:spPr>
          <a:xfrm>
            <a:off x="380880" y="922320"/>
            <a:ext cx="5410440" cy="547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3581280" y="922320"/>
            <a:ext cx="5257800" cy="547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267080" y="2057400"/>
            <a:ext cx="8384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62120" y="2286000"/>
            <a:ext cx="28191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webbed feet to help it sw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867280" y="2362320"/>
            <a:ext cx="24386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back legs to sw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762120" y="3200400"/>
            <a:ext cx="28191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s to warmer weather in the wi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867280" y="3390840"/>
            <a:ext cx="28195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bernates during the wi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143000" y="4419720"/>
            <a:ext cx="25146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beak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at fish or po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gr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943600" y="4343400"/>
            <a:ext cx="21337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its stick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gue to ea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809880" y="2895480"/>
            <a:ext cx="1676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tch from eg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4000680" y="4000680"/>
            <a:ext cx="13334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no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and L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380880" y="922320"/>
            <a:ext cx="5410440" cy="547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581280" y="922320"/>
            <a:ext cx="5257800" cy="547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267080" y="2057400"/>
            <a:ext cx="8384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62120" y="2286000"/>
            <a:ext cx="28191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s n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867280" y="2362320"/>
            <a:ext cx="24386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alks a 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62120" y="3200400"/>
            <a:ext cx="28191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s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5867280" y="3390840"/>
            <a:ext cx="28195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s m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809880" y="2895480"/>
            <a:ext cx="1676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lay base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4000680" y="4000680"/>
            <a:ext cx="13334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Like jo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514600" y="1371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5943600" y="1371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18:44:30Z</dcterms:created>
  <dc:creator>Kristen M. Clasen</dc:creator>
  <dc:description/>
  <dc:language>en-US</dc:language>
  <cp:lastModifiedBy>teacher</cp:lastModifiedBy>
  <dcterms:modified xsi:type="dcterms:W3CDTF">2011-01-03T23:34:54Z</dcterms:modified>
  <cp:revision>3</cp:revision>
  <dc:subject/>
  <dc:title>Compare and Contrast -</dc:title>
</cp:coreProperties>
</file>